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F2B9E-FEC1-42BD-A53F-EFA0F3F90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123FA-0AE2-41BD-8EAD-174D9CE2B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CC954-E67E-49A2-BB45-D609F8639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203CD-2135-412D-A945-A9CD4A2EB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5AB17-729E-411D-AA7E-4D0FDF109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52BA4-D312-4A66-9D15-75DA5406D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5A32E-BFD8-4161-ADE8-CEDE4A9C9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B3476-FAD3-45A7-9627-C1A448491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C129E-8294-4850-BEF0-510B9C242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45BFC-C82D-49B5-8067-23907DBE8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B8A51-0F7D-4501-9535-E6FC7424B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D083B-A235-418B-BEAD-0BE1C385E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9EDA1-0661-4C7F-9D46-4FB133C67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2D4A6-B5BD-4C38-AA1D-A92DFE410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232E6-258D-4EF9-8A7A-AF004085E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85CC3-04E1-4653-BA27-EE63BB549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987ED-35EE-4F65-8FDA-565D26997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D7400-8BBE-4AF6-A533-AD8C5B8CE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A2178-6A25-4163-8A36-22895D785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FBC55-6749-43C4-A173-0FB389704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5F6FF-6A9B-4946-9C1A-E7F0D6FFD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5BEBA-AF7E-4A30-A3CF-797A0CF99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AB59F-7409-4BE6-91B1-1CF24BE07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EF3AF-BC28-41F7-AF9B-5A40466A5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B277D-EB9B-4E91-B966-7FA68CFEFB5C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prstGeom prst="pie">
            <a:avLst/>
          </a:pr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prstGeom prst="pie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8FB9C-48D5-45E5-B02A-979713200E33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Профессиональный конкурс </a:t>
            </a:r>
            <a:br>
              <a:rPr sz="3800"/>
            </a:b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«Лучший педагог ДОУ» </a:t>
            </a:r>
            <a:br>
              <a:rPr sz="3800"/>
            </a:b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как средство развития педагогического мастерства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3047760" y="4114800"/>
            <a:ext cx="55623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твеева М.Г., педагог-психолог ГМЦ г.Каза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оманова Н.Г., методист по дошкольному образованию ИМО ГМЦ Советского района, старший воспитатель МАОУ «Прогимназия № 29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59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3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33520" y="533160"/>
            <a:ext cx="8229600" cy="50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r>
              <a:rPr b="0" i="1" lang="ru-RU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Мастер-класс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 — это интерактивная форма обучения и обмена опытом, объединяющая формат тренинга и конференции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– </a:t>
            </a:r>
            <a:r>
              <a:rPr b="0" i="1" lang="ru-RU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Мастер-класс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 (от английского </a:t>
            </a:r>
            <a:r>
              <a:rPr b="0" i="1" lang="ru-RU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masterclass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: </a:t>
            </a:r>
            <a:r>
              <a:rPr b="0" i="1" lang="ru-RU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master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 — лучший в какой-либо области + </a:t>
            </a:r>
            <a:r>
              <a:rPr b="0" i="1" lang="ru-RU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class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 — занятие, урок) действительно является семинаром, который проводит эксперт в определённой дисциплине, для тех, кто хочет улучшить свои практические достижения в этом предмете. Очевидно, таким образом, что мастер-классы не показывают, а проводят. Придя в русский язык, слово «мастер-класс» и вовсе получило самое широкое значение; так теперь называют практически любой семинар, проводимый опытным человеком, неважно, в какой области знаний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– </a:t>
            </a:r>
            <a:r>
              <a:rPr b="0" i="1" lang="ru-RU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Мастер-класс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 — современная форма проведения обучающего тренинга-семинара для отработки практических навыков по различным методикам и технологиям с целью повышения профессионального уровня и обмена передовым опытом участников, расширения кругозора и приобщения к новейшим областям знания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Прямоугольник 1"/>
          <p:cNvSpPr/>
          <p:nvPr/>
        </p:nvSpPr>
        <p:spPr>
          <a:xfrm>
            <a:off x="539640" y="620640"/>
            <a:ext cx="84250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rebuchet MS"/>
              </a:rPr>
              <a:t>Рекомендации по подготовке мастер-клас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1. Выберите ведущую педагогическую идею, которую вы хотите проиллюстрировать на мастер-классе и свяжите ее с тем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2. Определите цели и задачи в связи с темой, которые вы хотите достигнуть на мастер-класс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3. Придумайте проблему, вопрос, парадокс, вводящие в вашу тему занятия и представляющие интерес для «воспитанников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4. Подберите технические средства (минимально) и различные формы работы к данным целям и задача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5. Придумайте неожиданные предметы или открытия в обычном удивительного, которые раскрывают ведущую педагогическую иде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6. Включите фантазию, придумайте интересный замысел мастер-класс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7. Составьте подробный план занят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8. Тщательно проверьте технику и работу микрофонов перед началом мастер-класс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9. Расставьте стулья, столы и доску так, как вам нуж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10. Когда все готово — дайте команду организаторам, что можно начина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Прямоугольник 1"/>
          <p:cNvSpPr/>
          <p:nvPr/>
        </p:nvSpPr>
        <p:spPr>
          <a:xfrm>
            <a:off x="684360" y="476280"/>
            <a:ext cx="7775280" cy="56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rebuchet MS"/>
              </a:rPr>
              <a:t>Рекомендации по проведению мастер-класс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1. Старайтесь говорить не громко и не тихо, но внятно и с разными интонациями (не монотонно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2. Сами говорите только в микрофон и следите, чтобы ученики тоже давали ответы в микрофон, чтобы слышали все в зале. Контролируйте силу своего голоса и голоса учеников по звуку в колонка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3. Нельзя весь мастер-класс читать лекцию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4. Не превращайте мастер-класс только в игру. Одна форма работы на мастер-классе неприемлем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5. Проявляйте специфику предмета (иногда к концу урока зрителям и жюри не понятен предмет преподавания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6. Это урок не для профессионалов данного направления. Задача — прояснить сложное, затронуть общечеловеческие ценности, проблемы, которые волнуют все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7. Используйте новые информационные технологии только если они органично входят в вашу идею урок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8. Здоровьесбережение должно стать не надуманным, а органичным элементом урок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9. Не добивайтесь долго того ответа, который вам нужен. А если получили его раньше — не продолжайте двигаться в эту сторон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10. Старайтесь показывать не только себя, но и ученик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11. Не бойтесь задавать трудные вопрос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12. Проведите в конце краткий анализ занятия с «учениками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Box 1"/>
          <p:cNvSpPr/>
          <p:nvPr/>
        </p:nvSpPr>
        <p:spPr>
          <a:xfrm>
            <a:off x="838080" y="990720"/>
            <a:ext cx="7358040" cy="47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Открытый микрофон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терии оценива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фессиональная компетент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ичие собственной позиции по проблем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убина и оригинальность сужд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ая культура и эруди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оугольник 1"/>
          <p:cNvSpPr/>
          <p:nvPr/>
        </p:nvSpPr>
        <p:spPr>
          <a:xfrm>
            <a:off x="684360" y="476280"/>
            <a:ext cx="7848360" cy="579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- это я. Такого, как я, никогда не было и не будет. Есть люди, чем-то похожие на меня, но в точности такого, как я, нет. Мне принадлежит мое тело и все, что оно делает. Мне принадлежит мой голос: тихий или громкий, нежный или резкий. Мне принадлежат мои глаза и все образы, которые они могут увидеть. Это все принадлежит мне, потому что я один выбрал это, это истинно. Это достаточное основание для того, чтобы принять и полюбить себя, заинтересоваться собой. Теперь, когда я принял себя, я могу набраться терпения и мужества, чтобы узнать себя лучше и глубже. Конечно, во мне есть нечто, что вызывает мое недоумение. Но теперь, когда я не боюсь посмотреть в себя, я могу сделать так, чтобы все во мне способствовало достижению моих целей, чтобы полезного и доброго во мне становилось больше и больше. Я могу видеть, слышать, думать, действовать. Значит, во мне есть все, чтобы жить. Чтобы вносить гармонию в мир людей и вещей вокруг меня. Я – это я, и Я – это здорово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Box 1"/>
          <p:cNvSpPr/>
          <p:nvPr/>
        </p:nvSpPr>
        <p:spPr>
          <a:xfrm>
            <a:off x="785880" y="428760"/>
            <a:ext cx="785808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«Презентация опыта работы, методический семинар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 Unicode MS"/>
                <a:ea typeface="Times New Roman"/>
              </a:rPr>
              <a:t>Регламент – 15 мину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Критерии оценива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Умение анализировать, обобщать, выявлять и применять инновационные идеи в своей профессиональной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Практическая значимость и новизна представленного опы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Общая  и профессиональная эруди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Культура публичного выступ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Умение взаимодействовать с аудитори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Box 3"/>
          <p:cNvSpPr/>
          <p:nvPr/>
        </p:nvSpPr>
        <p:spPr>
          <a:xfrm>
            <a:off x="533520" y="533520"/>
            <a:ext cx="8215200" cy="55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«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дагогическое мероприятие с детьми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5-30 минут (от возрастной группы воспитанников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терии оценива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ическая компетент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ие заинтересовать группу детей содержанием и видом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игинальность организации и выбора содержания открытого просмот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ие удерживать интерес детей в течение мероприят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я сотрудничества детей групп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декватность стиля взаимодействия с детьм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держка активности и инициативности дете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льтура общ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71600" y="320400"/>
            <a:ext cx="8215200" cy="46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33"/>
                </a:solidFill>
                <a:latin typeface="Garamond"/>
              </a:rPr>
              <a:t>Различия процесса обучения в детском саду, организованного в виде учебной деятельности и через организацию детских видов деятельности</a:t>
            </a:r>
            <a:endParaRPr b="0" lang="en-US" sz="16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152280" y="990720"/>
          <a:ext cx="8763120" cy="5187960"/>
        </p:xfrm>
        <a:graphic>
          <a:graphicData uri="http://schemas.openxmlformats.org/drawingml/2006/table">
            <a:tbl>
              <a:tblPr/>
              <a:tblGrid>
                <a:gridCol w="4381560"/>
                <a:gridCol w="4381560"/>
              </a:tblGrid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виде учебной деятельности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рез организацию детских видов деятельности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Ребенок - объект формирующих педагогических воз­действий взрослого человека. Взрослый - главный. Он руководит и управляет ребенком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Ребенок и взрослый - оба субъекты взаимодействия. Они равны по значимости. Каждый в равной степени це­нен. Хотя взрослый, конечно, и старше, и опытнее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Активность взрослого выше, чем активность ребенка, в том числе и речевая (взрослый "много" говорит)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Активность ребенка по крайней мере не меньше, чем активность взрослого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6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Основная деятельность - учебная. Главный результат учебной деятельности - решение какой-либо учебной задачи, поставленной перед детьми взрослым. Цель - знания, умения и навыки детей. Актив­ность детей нужна для достижения этой цели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Основная деятельность - это так называемые детские виды деятельности. </a:t>
                      </a:r>
                      <a:br>
                        <a:rPr sz="1300"/>
                      </a:b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"Ребенок должен быть активен. Но при этом важно, что­бы его активность не была беспорядочной, хаотичной, а оформлялась во вполне определенные, присущие до­школьнику виды деятельности... общение, игра, пред­метная деятельность, конструирование, изобразитель­ная деятельность, элементарная трудовая деятельность"¹. </a:t>
                      </a:r>
                      <a:br>
                        <a:rPr sz="1300"/>
                      </a:b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"Сам процесс их выполнения и итоги прежде всего ра­дуют самих детей и окружающих взрослых, не имея при этом каких-либо жестких норм и правил"². </a:t>
                      </a:r>
                      <a:br>
                        <a:rPr sz="1300"/>
                      </a:b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ель - подлинная активность (деятельность) детей, а освоение знаний, умений и навыков - побочный эффект этой активности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"/>
          <p:cNvGraphicFramePr/>
          <p:nvPr/>
        </p:nvGraphicFramePr>
        <p:xfrm>
          <a:off x="457200" y="380880"/>
          <a:ext cx="8229600" cy="52736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Основная модель организации образовательного процесса - учебна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Основная модель организации образовательного процесса - совместная деятельность взрослого и ребенк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 Основная форма работы с детьми - заняти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 Основные формы работы с детьми - рассматривание, наблюдение, беседы, разговоры, экспериментирование и исследования, коллекционирование, чтение, реализация проектов, мастерская и т. д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 Применяются в основном так называемые пря­мые методы обучения (при частичном использовании опосредованных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 Применяются в основном так называемые опосредованные методы обучения (при частичном использовании прямых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5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 Мотивы обучения на занятии, как правило, не связаны с интересом детей к самой учебной деятельности. "Удерживает" детей на занятии авторитет взрослого. Именно поэтому педагогам зачастую приходится "украшать" занятие наглядностью, игровыми приемами, персонажами, чтобы облечь учебный процесс в привлекательную для дошкольников форму. Но ведь "подлинная цель взрослого - вовсе не поиграть, а использовать игрушку для мотивации освоения непривлекательных для детей предметных знаний"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 Мотивы обучения, осуществляемого как организация детских видов деятельности, связаны в первую очередь с интересом детей к этим видам деятельност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" name=""/>
          <p:cNvGraphicFramePr/>
          <p:nvPr/>
        </p:nvGraphicFramePr>
        <p:xfrm>
          <a:off x="457200" y="380880"/>
          <a:ext cx="8229600" cy="52117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260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 Все дети обязательно должны присутствовать на занятии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 Допускаются так называемые свободные "вход" и "вы­ход" детей, что вовсе не предполагает провозглашения анархии в детском саду. Уважая ребенка, его состояние, настроение, предпочтения и интересы, взрослый обязан предоставить ему возможность выбора - участвовать или не участвовать вместе с другими детьми в совместном деле, но при этом вправе потребовать такого же уважения и к участникам этого совместного дела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0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 Образовательный процесс в значительной степени регламентирован. Главное для взрослого - двигаться по заранее намеченному плану, программе. Педагог часто опирается на подготовленный конспект занятия, в ко­тором расписаны реплики и вопросы взрослого, ответы детей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 Образовательный процесс предполагает внесение изменений (коррективов) в планы, программы с учетом потребностей и интересов детей. Конспекты могут ис­пользоваться частично, для заимствования фактического материала (например, интересных сведений о композиторах, писателях, художниках и их произведениях), отдельных методов и приемов и др., но не как "готовый образец" образовательного процесса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Box 2"/>
          <p:cNvSpPr/>
          <p:nvPr/>
        </p:nvSpPr>
        <p:spPr>
          <a:xfrm>
            <a:off x="838080" y="500040"/>
            <a:ext cx="7620120" cy="48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Решение психолого-педагогических ситуаций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терии оценива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ие сформулировать проблем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ние возрастных и индивидуальных особенностей участников ситу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ие аргументировать предлагаемые реш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ие при необходимости адекватно изменять стратегию повед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ая культура реч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Box 2"/>
          <p:cNvSpPr/>
          <p:nvPr/>
        </p:nvSpPr>
        <p:spPr>
          <a:xfrm>
            <a:off x="571680" y="500040"/>
            <a:ext cx="7429320" cy="44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Мастер-класс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егламент 20 мину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терии оценива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убина и оригинальность содерж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циальная значим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ие взаимодействовать с аудитори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Заголовок 1" descr=""/>
          <p:cNvPicPr/>
          <p:nvPr/>
        </p:nvPicPr>
        <p:blipFill>
          <a:blip r:embed="rId1"/>
          <a:stretch/>
        </p:blipFill>
        <p:spPr>
          <a:xfrm>
            <a:off x="2206800" y="3139920"/>
            <a:ext cx="6602400" cy="32245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 txBox="1"/>
          <p:nvPr/>
        </p:nvSpPr>
        <p:spPr>
          <a:xfrm>
            <a:off x="457200" y="1066320"/>
            <a:ext cx="8229600" cy="11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4000"/>
          </a:bodyPr>
          <a:p>
            <a:pPr marL="100440" indent="-8028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00"/>
                </a:solidFill>
                <a:latin typeface="Arial"/>
                <a:ea typeface="Times New Roman"/>
              </a:rPr>
              <a:t>ЧТО ТАКОЕ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100440" indent="-8028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00"/>
                </a:solidFill>
                <a:latin typeface="Arial"/>
                <a:ea typeface="Times New Roman"/>
              </a:rPr>
              <a:t>МАСТЕР-КЛАСС </a:t>
            </a:r>
            <a:br>
              <a:rPr sz="5000"/>
            </a:b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1" descr="ЗАРУБА Артур Викторович"/>
          <p:cNvPicPr/>
          <p:nvPr/>
        </p:nvPicPr>
        <p:blipFill>
          <a:blip r:embed="rId2"/>
          <a:stretch/>
        </p:blipFill>
        <p:spPr>
          <a:xfrm>
            <a:off x="457200" y="2819520"/>
            <a:ext cx="2286000" cy="18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Милонова Светлана Ринатовна</cp:lastModifiedBy>
  <dcterms:modified xsi:type="dcterms:W3CDTF">2012-12-27T06:08:18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